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2554"/>
        <c:axId val="28892951"/>
      </c:barChart>
      <c:catAx>
        <c:axId val="74125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92951"/>
        <c:crosses val="autoZero"/>
        <c:auto val="1"/>
        <c:lblAlgn val="ctr"/>
        <c:lblOffset val="100"/>
        <c:noMultiLvlLbl val="0"/>
      </c:catAx>
      <c:valAx>
        <c:axId val="288929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25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6802-FED4-4733-989F-277F5C39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EA6E-ECA6-405C-8620-2DE502A6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8F0-3774-401D-BFA0-69534BBE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0155-34E6-4B65-8C19-2A9A84BD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CF90-0C40-4E41-BBFE-512CA104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0DEE-CB39-4100-BB65-9198E6BB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155-C993-447D-A5AF-67BB8423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1A83-EEE5-4EEA-887B-D7E2C4B8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990A-E92E-4BE3-B810-C54FCCA2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3B9A-6DD3-4900-B1F9-E21A12DD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645-F36F-4F42-90C6-59F1C2BF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5A73-1173-4912-AD13-2830C842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C3593-5AF6-4888-B3BB-37B3E586A4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