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13123"/>
        <c:axId val="94838234"/>
      </c:barChart>
      <c:catAx>
        <c:axId val="11131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838234"/>
        <c:crosses val="autoZero"/>
        <c:auto val="1"/>
        <c:lblAlgn val="ctr"/>
        <c:lblOffset val="100"/>
        <c:noMultiLvlLbl val="0"/>
      </c:catAx>
      <c:valAx>
        <c:axId val="948382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131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B3E3-20C6-4E11-A96F-18B616276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AD8B-EEC3-4CBD-A8D9-3CF599023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A11A-6BC9-4EC9-AA2D-6A25D3A64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5D5D-97E8-4A44-844C-F6B34860D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3238-5AC3-4B1C-A5D5-235F2F168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A6C7-5D1B-44B7-8363-01AA15E55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E5FB-1773-4AAC-8074-4C3BD112D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F0F3-101E-44E0-85DF-B9719E180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EAE2-3194-4190-8FF7-A231A7141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31C4-3C85-4634-9A14-90E0C5C3F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272D-BF0D-4363-8623-63E031C4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20B7-4078-49EF-9CD9-AD33D6957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86B51C-30FD-4EB0-92CC-26E2182E9BE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