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435195"/>
        <c:axId val="26706484"/>
      </c:barChart>
      <c:catAx>
        <c:axId val="814351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06484"/>
        <c:crosses val="autoZero"/>
        <c:auto val="1"/>
        <c:lblAlgn val="ctr"/>
        <c:lblOffset val="100"/>
        <c:noMultiLvlLbl val="0"/>
      </c:catAx>
      <c:valAx>
        <c:axId val="267064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4351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E97D-203D-436F-9BEC-53EA1F7B0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AFC6-6437-4839-812B-C7AE12AF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D431-5115-4BD2-8E4E-B1B70D011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E50A-CA7E-4EC0-B4C1-973842701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6E52-E409-41A8-8B48-88FEDC1E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4961-BC87-4986-9F63-47CD8739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053F-EB1E-4C22-AEEA-1547C992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CC32-6808-4E05-A703-C76B9167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68ED-99D6-464B-BB6A-181AE51C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1921-F06A-4B2F-A821-0C7F9533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822B-EEBB-42FE-9954-4FCDB8C7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B9EA-19AE-4151-89AE-B98E8CBB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1137B-3BBD-4C3E-8C68-4403952105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