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3114"/>
        <c:axId val="52316915"/>
      </c:barChart>
      <c:catAx>
        <c:axId val="59153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16915"/>
        <c:crosses val="autoZero"/>
        <c:auto val="1"/>
        <c:lblAlgn val="ctr"/>
        <c:lblOffset val="100"/>
        <c:noMultiLvlLbl val="0"/>
      </c:catAx>
      <c:valAx>
        <c:axId val="52316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3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A7B-2BDE-4CDC-82B8-871990B3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1DA-01C5-4CF8-8BC8-59EBB1D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5BC-182E-4455-A87D-1E33840B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868-CCC6-48F6-AB63-F6CC87B3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E94-C73D-495B-AC7E-BEF3A05E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691-4172-40A0-823C-A694A33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8EF-6F5A-4D18-AFD2-2E614610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B8E-640D-4A49-B792-40280DF8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B3F-F50D-435C-B49F-4D174D94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36D-8F2A-4FCA-8548-447B4E0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0AF-9CAD-45DB-AC48-5B130EC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F8A-9AAB-4234-85A9-0FC3161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810D5-2E5B-4DDA-820B-485C2CD9F5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