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74647"/>
        <c:axId val="17422107"/>
      </c:barChart>
      <c:catAx>
        <c:axId val="57374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22107"/>
        <c:crosses val="autoZero"/>
        <c:auto val="1"/>
        <c:lblAlgn val="ctr"/>
        <c:lblOffset val="100"/>
        <c:noMultiLvlLbl val="0"/>
      </c:catAx>
      <c:valAx>
        <c:axId val="17422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74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13D-9DB7-43B3-B18F-FBF8947E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594-CFA9-433B-AC31-03449E88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A4F-256F-4973-813E-582EA0FA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603-9C81-4956-8A2D-B6FD5332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B13-5E94-40E9-B65B-8828199F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2FE-D789-4861-88C2-335155F0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03A-7795-41C4-A557-2146315C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BBA-5644-4F06-9F1F-B8EF8105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F24-76D9-4B78-876A-B4F9E935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FA6-B9A9-4A9F-A1FA-9C367031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C09-C660-4F01-9A8F-18463F1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8C2-C11B-4BEB-B8B0-CF2CAE41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6A410-7BC5-41F0-9615-FF5371C23F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