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57522"/>
        <c:axId val="44025100"/>
      </c:barChart>
      <c:catAx>
        <c:axId val="84557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25100"/>
        <c:crosses val="autoZero"/>
        <c:auto val="1"/>
        <c:lblAlgn val="ctr"/>
        <c:lblOffset val="100"/>
        <c:noMultiLvlLbl val="0"/>
      </c:catAx>
      <c:valAx>
        <c:axId val="44025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57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719-D6B0-44F5-90E5-5108EDDD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F72-4521-455B-89BA-BC254AC2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276-17CB-4E05-9874-F6DC8911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12B-8E77-44C4-BF4E-E9C0CCC1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D60-925F-48F5-9D44-30D2B95C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8C0-4BC7-4613-9C28-330F4336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148-D521-491F-803F-779DDEB6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63F9-40FA-42C3-8C62-08E4C449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A6C-66B2-4903-9346-0DA640DA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71E-C172-4614-8B29-1D35FA7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C18-855E-4DFB-981F-F982428B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DC5-ECDD-4FB8-ADDD-FF9BB7D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B32F9-43ED-4381-9697-1835360E39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