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66042"/>
        <c:axId val="76753006"/>
      </c:barChart>
      <c:catAx>
        <c:axId val="57266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53006"/>
        <c:crosses val="autoZero"/>
        <c:auto val="1"/>
        <c:lblAlgn val="ctr"/>
        <c:lblOffset val="100"/>
        <c:noMultiLvlLbl val="0"/>
      </c:catAx>
      <c:valAx>
        <c:axId val="767530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66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E37-D85E-4E53-AF1F-98DC1D2B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D4C-032B-428A-9830-A462D49F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FF7D-9791-42DD-9A1F-7FFB1D87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EE25-4540-456F-B0AD-E7D5BFB8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E47-FC9F-4057-BEF6-B566875B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F69A-0B7B-4BB7-91F8-EC58CF57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C8DD-9893-4C21-A903-B9735A15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4E6-EA17-4CE9-9B63-F920BA51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394-F52F-4294-A4DD-349144B1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4EB-F7AD-4FEC-A126-D48ECA29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B81-66B5-4B57-9280-23D8693F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1AA-F942-4651-80DF-01E2387D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B0D7D-B12B-4015-AA4B-212B6F07D1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