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10206"/>
        <c:axId val="71348422"/>
      </c:barChart>
      <c:catAx>
        <c:axId val="92510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8422"/>
        <c:crosses val="autoZero"/>
        <c:auto val="1"/>
        <c:lblAlgn val="ctr"/>
        <c:lblOffset val="100"/>
        <c:noMultiLvlLbl val="0"/>
      </c:catAx>
      <c:valAx>
        <c:axId val="713484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10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2E7-E4EE-4DE4-8ACA-5475EC77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1EA-C0C7-4483-B51E-16C3BEC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8FB-5448-4012-AE16-602D1D34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BB1-8E33-41AE-993D-D7BE55CB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96C-9012-4C90-B06D-9E220B19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B1C-7CEE-485B-A36D-F6564B7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917-2457-4C07-A14B-69DC855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1834-8B30-4297-9FDE-5210CB2C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2C3-02A2-485A-B4DA-E8D633B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02B-F62E-41AF-B03E-7D0A32FD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1D7-706D-43BD-AF7B-D036F65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D10-C123-46C3-9146-E933176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C7959-5E35-4F61-B8DF-5F12C37EE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