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81057"/>
        <c:axId val="19398497"/>
      </c:barChart>
      <c:catAx>
        <c:axId val="987810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98497"/>
        <c:crosses val="autoZero"/>
        <c:auto val="1"/>
        <c:lblAlgn val="ctr"/>
        <c:lblOffset val="100"/>
        <c:noMultiLvlLbl val="0"/>
      </c:catAx>
      <c:valAx>
        <c:axId val="19398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810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7C55-6BA5-44A6-9A28-002383D2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0251-8320-45C2-8C4F-69FD5C21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7EE-D2B1-4521-8AF4-D4E54FF3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988F-5536-4F1B-A85F-CB42A495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9AFD-F4BB-4A3E-8B44-A5DCD57C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13DE-2A30-410C-8C78-23629DB4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2402-F7FF-44E1-A60C-64CAD40A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6FF-206B-4DF5-80C9-7D190BEC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1AE2-DDA5-46FB-B80E-04D2C00E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1B7-0E19-4E72-9C40-060F7B6A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0D5C-1DD3-4DD9-AFF1-87862CA1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7B35-C592-4F30-95E8-4B961BE2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6896B-616D-4705-BB7E-A2B930C406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