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81852"/>
        <c:axId val="79175988"/>
      </c:barChart>
      <c:catAx>
        <c:axId val="903818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75988"/>
        <c:crosses val="autoZero"/>
        <c:auto val="1"/>
        <c:lblAlgn val="ctr"/>
        <c:lblOffset val="100"/>
        <c:noMultiLvlLbl val="0"/>
      </c:catAx>
      <c:valAx>
        <c:axId val="79175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818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5BC-55EF-4B6E-8C37-F34FC188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C2A-8780-4183-B129-9B36217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DA3-1812-492B-9E4A-CA8D5E43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EA7-8D49-4056-9945-28BD62EA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4F6-B45F-4B6C-8030-DF2A47C2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36A-A8C9-4223-89A4-D206FD4E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47E-DC2E-451F-BF2E-95448AE3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70B-C899-4CEB-8958-7F46B775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729-141D-40A6-B94A-93AA0CBD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EA6-4479-43A6-BEC1-966FBE47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A55-D0A2-4A65-9812-2FF5EA80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2C7-803D-43B7-96EB-564FF837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1DC65-7B0F-41BA-90EA-3C52E4C91A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