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04894"/>
        <c:axId val="65821595"/>
      </c:barChart>
      <c:catAx>
        <c:axId val="52804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1595"/>
        <c:crosses val="autoZero"/>
        <c:auto val="1"/>
        <c:lblAlgn val="ctr"/>
        <c:lblOffset val="100"/>
        <c:noMultiLvlLbl val="0"/>
      </c:catAx>
      <c:valAx>
        <c:axId val="65821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4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493-0900-462B-A416-E977FEB1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C5E-DD40-4326-87E0-6CF479A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9EE-F6BF-4C0E-86DF-B4C621AD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19E-9CF9-4EB6-B52B-2C6E4810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09D-3F9A-4AD0-AAE9-E08D8BF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BEF-8B72-42E4-B859-80EDE5E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7C2-A4A6-4040-A5D5-E161C51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F72-B2AB-4DBA-BD7A-FDEF2A04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DDD-2F54-492B-AE43-47D1CEB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BFA-0176-42A9-9D71-C430193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500-CE67-4446-BD6E-B90441B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9D5-071D-476E-9DDB-469537E4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7F45A-9103-496A-A475-FB1DA86ADF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