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50347"/>
        <c:axId val="59389551"/>
      </c:barChart>
      <c:catAx>
        <c:axId val="77750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89551"/>
        <c:crosses val="autoZero"/>
        <c:auto val="1"/>
        <c:lblAlgn val="ctr"/>
        <c:lblOffset val="100"/>
        <c:noMultiLvlLbl val="0"/>
      </c:catAx>
      <c:valAx>
        <c:axId val="59389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0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17F-60A1-402C-A709-BF2F8AAC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DD0-57DE-42A5-83E5-6557554B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345-E9BD-4F8F-8AB1-382DE127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955-7B60-4B8C-9534-3F9C86F9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006-52C9-42C7-AFE8-4A0D995E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955-E28D-41DA-A548-0BC4845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098-2C5D-450B-9763-07FFB7E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3FE-23FF-41B7-A346-40C92392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976-93AA-4D53-A929-7CCF142F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031-A637-4C41-A0F1-3A82B14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792-C4F5-48E7-9DFC-7B574081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B9E-3F20-448F-988A-AE87A02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6D56F-32DE-4981-8BB4-B049C3B5A0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