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74393"/>
        <c:axId val="68207735"/>
      </c:barChart>
      <c:catAx>
        <c:axId val="13574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07735"/>
        <c:crosses val="autoZero"/>
        <c:auto val="1"/>
        <c:lblAlgn val="ctr"/>
        <c:lblOffset val="100"/>
        <c:noMultiLvlLbl val="0"/>
      </c:catAx>
      <c:valAx>
        <c:axId val="68207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4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584-08A2-4EA9-AE42-3EBBFED5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BDF-1FC5-405D-89D8-107542B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F07-BFB6-495E-A38D-93F9BBEE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CCF-8943-458A-84A8-C13F8AA3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1B6-502A-4526-BDCA-AC7FD33E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477-A760-4EC8-B8BE-24FE9F9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2A8-5E58-4A55-834E-0C1D32F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601-1A30-4466-B7FC-719F690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22A-E163-44CF-B0BD-BFFCDEB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BAC-8F2B-4FA5-9675-375800D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E0C-D044-4FF7-B11F-E165C8C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53C-7CC2-4785-8BDA-A79C90F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AAF19-9518-4803-AD12-DA4BB0FE0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