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97647"/>
        <c:axId val="77163166"/>
      </c:barChart>
      <c:catAx>
        <c:axId val="37597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63166"/>
        <c:crosses val="autoZero"/>
        <c:auto val="1"/>
        <c:lblAlgn val="ctr"/>
        <c:lblOffset val="100"/>
        <c:noMultiLvlLbl val="0"/>
      </c:catAx>
      <c:valAx>
        <c:axId val="77163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97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D33-8CEB-4FA8-8F80-8F6AE400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185-ECF0-4A2A-BE58-7A5908B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AFC-089F-4850-9D87-26CCAC99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483-9626-45FA-A37A-F653DA1A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7AB-1E6C-40DB-BD9D-E7F21CB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87C-E601-4DD5-BCF1-2EDCF5EC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F01-5E2C-42FD-8D57-169CBDB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F6F-9744-46A7-ADAE-C6449EA5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9C7-292A-4296-B3E1-21AABCE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6B1-C3E9-4023-ADA2-D6051DF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5FF-C753-418F-A50E-790A68A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3E2-9428-46AF-A6E5-E4BF57F7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49CCA-138B-45F8-B047-7A7C61508C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