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632002"/>
        <c:axId val="90311445"/>
      </c:barChart>
      <c:catAx>
        <c:axId val="33632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11445"/>
        <c:crosses val="autoZero"/>
        <c:auto val="1"/>
        <c:lblAlgn val="ctr"/>
        <c:lblOffset val="100"/>
        <c:noMultiLvlLbl val="0"/>
      </c:catAx>
      <c:valAx>
        <c:axId val="90311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32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A94-A1B2-4AA9-A290-9D029445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7462-72E6-4570-9359-36DECDC6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F5D-C657-41C0-B1A1-D86151FE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CA3-0C3D-438B-8623-0DB2D139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F2D5-0570-4589-BFAF-0075ABB5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6991-7786-45CF-B06E-C329F910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459-EE02-4C3B-989E-BB0647C8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2671-66F1-4A2C-B8F6-3E393EE9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6C10-221F-44E9-B402-FE25102B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B37-1E2B-42B3-BCF5-0571293E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E157-95FE-449E-B5E5-13B1A2D8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7FB7-9768-4DD6-94B9-7E6B663F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35788-A894-4797-BE02-E38CA85181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