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25648"/>
        <c:axId val="16906633"/>
      </c:barChart>
      <c:catAx>
        <c:axId val="69125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06633"/>
        <c:crosses val="autoZero"/>
        <c:auto val="1"/>
        <c:lblAlgn val="ctr"/>
        <c:lblOffset val="100"/>
        <c:noMultiLvlLbl val="0"/>
      </c:catAx>
      <c:valAx>
        <c:axId val="16906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25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8C1-0DA0-4D12-9473-96753F74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E93-1E89-42B9-A97A-27063C3E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916-7983-44EA-B57A-9D692B0E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CDA-FD7B-4E38-B194-1AD1CD1C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DBE0-68A7-400E-A8A8-33D2E4D2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CF7-F4EC-4139-9732-132CAD43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93F-D216-434C-96A2-6B48ECB8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0E1-0B0E-4F05-BE1E-70FAAADF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2D1-86E6-43C7-8389-0A12771A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C83-9B69-4D19-9855-B06D693F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385-FA3F-4326-8261-CAEDD488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A1E-6126-41B6-A7E2-162A604A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4A832-543D-470A-8A14-69371553DD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