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92001"/>
        <c:axId val="10427807"/>
      </c:barChart>
      <c:catAx>
        <c:axId val="91692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27807"/>
        <c:crosses val="autoZero"/>
        <c:auto val="1"/>
        <c:lblAlgn val="ctr"/>
        <c:lblOffset val="100"/>
        <c:noMultiLvlLbl val="0"/>
      </c:catAx>
      <c:valAx>
        <c:axId val="10427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92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F08-D3B2-4F89-A10C-63DC06D0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4AC-FA8D-4CC7-9416-8C72E815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E4B-479A-4A5B-ABDB-649ADE1E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5C9-55AA-4FB8-AAED-57040C16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4CA-04F1-4211-A43D-3AD042EB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6BF-B7A1-4D28-838A-4958CEC6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147-5631-49EB-AF13-1AC6A87B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61E-6E91-4440-96A4-E4DB937D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F05-FC4F-4A5F-81EB-8E0499B6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35A-55B7-4988-BBD4-CED8ED7C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9D6-71D6-48EB-ABEC-C197014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E9C-1607-4A84-A9CA-8EA31E56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BCB5E-9313-4095-BA62-B932E46894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