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68302"/>
        <c:axId val="6500645"/>
      </c:barChart>
      <c:catAx>
        <c:axId val="66468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0645"/>
        <c:crosses val="autoZero"/>
        <c:auto val="1"/>
        <c:lblAlgn val="ctr"/>
        <c:lblOffset val="100"/>
        <c:noMultiLvlLbl val="0"/>
      </c:catAx>
      <c:valAx>
        <c:axId val="6500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68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84F-637F-4B3E-AEBF-24480B8A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C6E-7A2D-4B9E-B5ED-37B22E43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ABD-5B33-4D3A-98CD-2588C905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419-06F2-4F57-83F7-515246E2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1B7-1A9F-40AF-97FD-83D602B6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765-422E-4623-BC78-9D0C2596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F42-45CA-4989-B9FB-F2E4A80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30F-4C59-4057-A45A-49D8DA8E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7C7-7EFF-4CE1-AF4A-421917E8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888-DB29-44B1-BFF5-72ECCE58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144-C0DF-4DB6-A2D7-84A6A15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EBF-F6EF-42B3-A44C-442363B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BDA1B-B1BC-4CF5-96C6-5F7A5DC18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