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26371"/>
        <c:axId val="76893263"/>
      </c:barChart>
      <c:catAx>
        <c:axId val="550263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93263"/>
        <c:crosses val="autoZero"/>
        <c:auto val="1"/>
        <c:lblAlgn val="ctr"/>
        <c:lblOffset val="100"/>
        <c:noMultiLvlLbl val="0"/>
      </c:catAx>
      <c:valAx>
        <c:axId val="76893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263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C8EC-000F-4D68-8214-8A80AD87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A134-4F01-402C-849F-27CE1FF0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78F-39BA-4E66-88A9-94AC30CE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7A1C-55B1-4583-A7F0-CAE35794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FAE4-69C5-47F4-BEB6-CA69E031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07AF-E0B5-4630-ADF8-85F14ED7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789-63A2-4CE9-AEB9-7AFBD7DD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3E45-FB70-44D0-925F-330F586A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2E3-1A7D-4104-96D2-DA2BC46C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C28-8AA5-4F6A-9A2F-87CBBD35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C73-13B5-4CB9-A225-2655EBA2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0A0-0F1A-495B-80CC-57907BEB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64A99-F855-441E-85D5-3661C25480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