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7818776"/>
        <c:axId val="1480100"/>
      </c:barChart>
      <c:catAx>
        <c:axId val="1781877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80100"/>
        <c:crosses val="autoZero"/>
        <c:auto val="1"/>
        <c:lblAlgn val="ctr"/>
        <c:lblOffset val="100"/>
        <c:noMultiLvlLbl val="0"/>
      </c:catAx>
      <c:valAx>
        <c:axId val="148010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81877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4F700-009C-4E72-B154-635E1D5DC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71B18-360C-41A1-8C87-2E79D4EE9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632B6-0C1B-49F9-8482-53938D59A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8D5E1-23F3-48B0-9922-292AD9E6C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D1A16-5FA0-4745-B74B-735A7B399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A3AB3-FA27-483E-94CA-BFBB152BE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35501-408C-4DAA-9193-DC328EC13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4A010-4DA2-4ED7-835E-5AF5B2A47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1FEDE-7488-4E40-9627-6D571F131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0018F-F21B-476E-A5F7-6C3B2617B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A7FEF-EF9B-495F-A5C4-2DE0EAE79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7913C-0FDE-455E-90A3-A187EB25C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2E3BA7-EAFC-4152-A3F4-6DC399288B0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