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719506"/>
        <c:axId val="61075698"/>
      </c:barChart>
      <c:catAx>
        <c:axId val="25719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75698"/>
        <c:crosses val="autoZero"/>
        <c:auto val="1"/>
        <c:lblAlgn val="ctr"/>
        <c:lblOffset val="100"/>
        <c:noMultiLvlLbl val="0"/>
      </c:catAx>
      <c:valAx>
        <c:axId val="610756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19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0AA2-2DF1-4FA4-AF4C-B8C96774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1EA-3D7B-4156-B3B4-39CDD2A4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1F9-F8FC-452D-9EC3-D44B4824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255-2FFF-4155-BB0A-C22896D5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20F-5360-41B7-946E-A975C575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9EB-9408-49B1-83AB-B54E454E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906-B928-49F3-BE94-867CB5E4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F0E2-CB25-400F-84D0-31126AA2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DE3E-3BB8-47EC-9A6C-8A8E7637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951-0108-40D0-A292-543DEA73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3B1-9830-4ED4-8625-365658FE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A7C-1C57-4683-B3AE-92D81FC3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FF0F2-7AD3-422B-9E28-9C19192A5B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