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20816"/>
        <c:axId val="9032160"/>
      </c:barChart>
      <c:catAx>
        <c:axId val="78520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2160"/>
        <c:crosses val="autoZero"/>
        <c:auto val="1"/>
        <c:lblAlgn val="ctr"/>
        <c:lblOffset val="100"/>
        <c:noMultiLvlLbl val="0"/>
      </c:catAx>
      <c:valAx>
        <c:axId val="9032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20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E73-FF10-4665-B71C-F367B066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6D0-A1C8-47CB-8488-1EE19AA5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DC8-4F72-49BB-A738-CA331CAD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180-969B-4497-AEDE-C2857648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B39-7635-436E-9C33-E26192B9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893-D504-4F4A-B480-06F7773B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BFB-E4B1-48CC-938C-FEA1FA07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D57-4208-456C-B150-677A0C38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EC6-4988-4BCF-ACFC-03BD6B82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BEF-3668-4DA8-9AD4-6587353F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C4A-358F-4878-AA96-B26EB73B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272-3DEB-40B4-86A0-6703E9E8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3A144-0880-4EC7-838D-FA5570FA91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