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62701"/>
        <c:axId val="99614711"/>
      </c:barChart>
      <c:catAx>
        <c:axId val="78262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14711"/>
        <c:crosses val="autoZero"/>
        <c:auto val="1"/>
        <c:lblAlgn val="ctr"/>
        <c:lblOffset val="100"/>
        <c:noMultiLvlLbl val="0"/>
      </c:catAx>
      <c:valAx>
        <c:axId val="99614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62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DF0-DF84-492D-8998-F7C1C8BC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3E8-DA21-4E51-9867-7856282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522-DC38-4DFD-A9D0-BDE34ABD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FD6-12CE-4C5F-A40E-CE907042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9B9-17AE-4074-BE8D-BD72EA19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004-FA83-4AA0-9B39-905AE8B3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0A4-1728-4B7D-812F-2E21F23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FCF-43DF-4BD2-9799-FAEFAA4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536-A127-4075-A31A-0BABA21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9DC-5622-45A2-89EC-DE4A96C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E48-976C-4B44-AB4D-3BA008D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820-5FBC-400B-ABF5-7F51C0B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33F7-9B8B-44DB-A098-DBD6D5EA0D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