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33096"/>
        <c:axId val="68062953"/>
      </c:barChart>
      <c:catAx>
        <c:axId val="14333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62953"/>
        <c:crosses val="autoZero"/>
        <c:auto val="1"/>
        <c:lblAlgn val="ctr"/>
        <c:lblOffset val="100"/>
        <c:noMultiLvlLbl val="0"/>
      </c:catAx>
      <c:valAx>
        <c:axId val="68062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33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06A-AD92-4CFE-A528-040EBAB9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007-9025-47B1-909A-3CAB561E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069-8D06-4623-93C3-360DAE06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D09-5D8C-46B2-B77B-BD1971DE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2DA-11D8-4DA9-B6CB-059644EE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E40-CCEE-4ADF-9D18-738FB4CD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960-EFF8-4969-A156-24C83CE8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F61-6328-4A42-A3E8-D1B7CA24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5E0-C994-40EA-A0C8-4647BFC1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95D-E300-4B6D-BF17-97EECA42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81F-B9B3-471C-9E7F-09D5C6F1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865-262D-4617-8067-15CB99F4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9B799-F234-412D-A4FA-4FFCCF86B0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