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37078"/>
        <c:axId val="42717429"/>
      </c:barChart>
      <c:catAx>
        <c:axId val="61037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7429"/>
        <c:crosses val="autoZero"/>
        <c:auto val="1"/>
        <c:lblAlgn val="ctr"/>
        <c:lblOffset val="100"/>
        <c:noMultiLvlLbl val="0"/>
      </c:catAx>
      <c:valAx>
        <c:axId val="42717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7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AC8-C5F2-4737-AA33-46846A8B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8BA-A709-4059-83A9-B9BD312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231-B1B4-4560-B2F7-AC3D67C7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4C8-D061-4BE6-A6EF-6A88975C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382-7477-4F70-80B0-29B10BF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76C-8058-4139-852A-255F5D0D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8D9-90B4-4163-94A7-A4F973BD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F0A-9A43-4487-97FE-E520F9A3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046-54D1-4C7F-B3D4-C6E35DAE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BC7-75EA-4690-84E4-F2903454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582-B601-4630-B89C-92BF6B2F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3F1-0989-4118-850C-01CE63F1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6017-A512-40A0-82E1-E86FB9FD4F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