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20695"/>
        <c:axId val="12681373"/>
      </c:barChart>
      <c:catAx>
        <c:axId val="65120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1373"/>
        <c:crosses val="autoZero"/>
        <c:auto val="1"/>
        <c:lblAlgn val="ctr"/>
        <c:lblOffset val="100"/>
        <c:noMultiLvlLbl val="0"/>
      </c:catAx>
      <c:valAx>
        <c:axId val="12681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0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D61-B9F1-46A6-83E0-F435E4AB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C8B-A2DA-4D52-B342-E4B12813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145-6FFC-4419-B003-135499FB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3D0-6F26-417E-B8F2-E9E11EED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0B4-B447-4A6D-8ECF-3B1ADC8B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1F3-73DE-410B-89F8-A0D4AA89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361-1148-4930-BA1A-52C3A47C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9A7-FF51-45B0-BE60-DD91E418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692-6952-4B61-87A2-3BCF3D68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A52-46FC-4F29-95EA-800E56B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21F-3B05-4C69-8A4F-61FC7A4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BAB-A087-4746-AC9E-682D4C2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8DBF0-35E4-4E31-B0BD-85063EC3C2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