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4476"/>
        <c:axId val="81136210"/>
      </c:barChart>
      <c:catAx>
        <c:axId val="63944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36210"/>
        <c:crosses val="autoZero"/>
        <c:auto val="1"/>
        <c:lblAlgn val="ctr"/>
        <c:lblOffset val="100"/>
        <c:noMultiLvlLbl val="0"/>
      </c:catAx>
      <c:valAx>
        <c:axId val="81136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4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743-89BA-4F95-85A1-BB59DE30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187-57E5-4D05-9441-ECE4D5D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45F-81CD-420A-8503-52A90693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965-0925-4860-A121-2A8B855C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E55-AD13-4B1A-BC27-CF3BEAF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3F4-95E4-40B0-9F76-EFE26BD4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F37-F08C-44D4-8526-5CC16787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A62-9385-4488-9D75-2434394F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38E-852C-40B8-B072-F79F893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C31-9BA8-42BB-8221-186BFBB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CA6-7588-419D-AF70-5F9B48E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D52-AC1F-4F51-9F17-0F2E9C0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5CC8F-CBF7-422F-906C-BCA0ABAC5C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