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851374"/>
        <c:axId val="17187812"/>
      </c:barChart>
      <c:catAx>
        <c:axId val="90851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87812"/>
        <c:crosses val="autoZero"/>
        <c:auto val="1"/>
        <c:lblAlgn val="ctr"/>
        <c:lblOffset val="100"/>
        <c:noMultiLvlLbl val="0"/>
      </c:catAx>
      <c:valAx>
        <c:axId val="17187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51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828-9A7C-4C0C-91CB-E3F3E532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0E5-BF6A-44AC-8BF2-8EF17B59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137-AA76-4612-8460-A5FC373B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5C4-C731-4A69-99EC-CF958587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4EB-54C0-4E8A-A03C-6EA54CFA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2089-DD30-447E-8AC3-94516474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EC1-6440-4F49-9F87-3749893E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16D-4B70-4E16-8D53-1BF6A6EF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308-3C78-48CB-9FE6-CE126D19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1820-5782-4A5F-9F4F-8D75CAE6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F30-5C32-4FA5-B04B-15F35928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4DDF-3CE4-48F0-B32E-5FC6C873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C5BDC-563F-426E-9466-6FC40436A3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