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358793"/>
        <c:axId val="12050846"/>
      </c:barChart>
      <c:catAx>
        <c:axId val="393587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050846"/>
        <c:crosses val="autoZero"/>
        <c:auto val="1"/>
        <c:lblAlgn val="ctr"/>
        <c:lblOffset val="100"/>
        <c:noMultiLvlLbl val="0"/>
      </c:catAx>
      <c:valAx>
        <c:axId val="120508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3587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1B4B-2108-400C-BFB3-31E3E997B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065C-DFAB-4617-A516-A6C22D754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4C3B-17F9-416A-BC45-5769E80E0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D3D9-60A4-4A76-B45F-303486CDC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4245-D0BC-46E1-8BFF-410E3AE4E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F826-39F7-4039-B269-0C52B6370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1C9A-000D-4F76-BDE8-FFE52AA85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8CB4-ACB8-4EDB-9AE8-C4D997172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FC67-0C82-45FF-840E-AABA2F7A2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DE1A-12B0-4EDC-91E7-7C04DEFD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65C1-45AE-4E69-903B-200CA329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22E2-5F5E-4413-9868-81C048C4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1D4483-D80F-4449-B652-946AC040D6F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