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02508"/>
        <c:axId val="22399341"/>
      </c:barChart>
      <c:catAx>
        <c:axId val="60602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99341"/>
        <c:crosses val="autoZero"/>
        <c:auto val="1"/>
        <c:lblAlgn val="ctr"/>
        <c:lblOffset val="100"/>
        <c:noMultiLvlLbl val="0"/>
      </c:catAx>
      <c:valAx>
        <c:axId val="22399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02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D5E-0E1B-4812-AF3A-0992CA8C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010-C2C3-4762-B428-C3E58112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45F-4F02-4CE6-ACAD-E3A47377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A4A-077E-4D89-AE48-3D0BA09D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034-FF77-4F0D-86C1-A803ACDE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645-BE9C-4B35-BF29-5CFAC235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513-A4C8-4A0A-B045-A4086E15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5BC-B980-4DDD-9CF1-C2D36C73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CF3-9F7C-4A10-90C3-C0F68207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EE6-3662-456A-9478-0D2C7AD9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9FC-7D7A-46D2-89D2-3550D3CA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A80-642A-4252-BC58-8B95FE49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9CE6B-1B6A-44D8-9A12-ECDD375717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