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22186"/>
        <c:axId val="76154746"/>
      </c:barChart>
      <c:catAx>
        <c:axId val="30422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54746"/>
        <c:crosses val="autoZero"/>
        <c:auto val="1"/>
        <c:lblAlgn val="ctr"/>
        <c:lblOffset val="100"/>
        <c:noMultiLvlLbl val="0"/>
      </c:catAx>
      <c:valAx>
        <c:axId val="76154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22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7C7-079D-45B8-96AB-8C7B2F83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FB7-5A44-4FEC-8847-5BD226B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4FC-607D-48CA-AF5D-20700043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6A3-EB40-4CA5-863F-82B3404F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3C2-E99A-4B7C-9590-7200EB27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992-78AF-483C-94A5-F12EFBE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EB1-7883-4636-A242-1C21BA5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470-2418-48D2-8924-A5E3A14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398-C343-4CF5-9ABC-311CC00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0AF-606A-4D6F-839F-963328F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BB4-6256-4799-B79A-CBD18194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58C-7A6C-4905-93F1-4437C07D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C218F-4188-4031-85A2-862BB54A4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