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77660"/>
        <c:axId val="26128101"/>
      </c:barChart>
      <c:catAx>
        <c:axId val="55277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28101"/>
        <c:crosses val="autoZero"/>
        <c:auto val="1"/>
        <c:lblAlgn val="ctr"/>
        <c:lblOffset val="100"/>
        <c:noMultiLvlLbl val="0"/>
      </c:catAx>
      <c:valAx>
        <c:axId val="26128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77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12B-62A7-48F3-86BF-6D16E405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315-79A8-45A2-AECA-45D503BB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D68-146E-4634-B9F4-D1F3F1DB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F96-373E-4B55-86FE-9A8032C1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844-8D28-463B-BD2F-57A35327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575-B421-4C90-9996-8405161B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289-8D1B-4F99-B6C6-D5CADE01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0E1-BD29-424C-AD9A-118274D8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AFE-044F-4B4A-8658-7F025DF4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2255-38C0-471C-8AB8-CA8B10A8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A1E4-3F3A-4804-82E7-5AB542F6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49F-6298-49E9-B67B-23B35865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61946-535E-466A-8D62-520C6B4BA2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