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535937"/>
        <c:axId val="51491877"/>
      </c:barChart>
      <c:catAx>
        <c:axId val="675359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91877"/>
        <c:crosses val="autoZero"/>
        <c:auto val="1"/>
        <c:lblAlgn val="ctr"/>
        <c:lblOffset val="100"/>
        <c:noMultiLvlLbl val="0"/>
      </c:catAx>
      <c:valAx>
        <c:axId val="514918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359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9320-AF5A-4895-AACF-4C98CD68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B82F-B7B0-4A09-BBAE-E9CC8D44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183C-ADD0-4104-8CED-E15DEDC30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2115-0F9B-404B-9CC5-19D097342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C0B6-D5BF-4346-A1A4-D7E537C6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4CDB-8C71-44F7-854F-5B4D9403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1120-82D3-4205-B0F2-ED2D4F90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C8F9-45DD-451E-A117-974FE685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D279-168D-42C6-914D-2E442C70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4FDB-DE26-496C-A32E-8F61C2EA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A992-7427-4B0F-B27B-7A203EAC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8144-30E8-4544-97C0-2A3193E8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E34520-51E1-473C-ABE0-D8965817F0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