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61024"/>
        <c:axId val="84016987"/>
      </c:barChart>
      <c:catAx>
        <c:axId val="48561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6987"/>
        <c:crosses val="autoZero"/>
        <c:auto val="1"/>
        <c:lblAlgn val="ctr"/>
        <c:lblOffset val="100"/>
        <c:noMultiLvlLbl val="0"/>
      </c:catAx>
      <c:valAx>
        <c:axId val="84016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1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B05B-3641-41EF-894C-81228AB9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196-8910-4AA7-A4D1-D3B9E1EE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C97-DF88-4A14-90C5-A89E3B18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3D2-1C31-40CB-8A3D-F1A68441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EDB-F875-4B59-9E7B-5F0BDD94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5D0-0E16-448B-91D1-866B4FA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AFD-6501-4D50-88A3-F2648EF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1CB-8017-4AAB-A174-6B3A9F0B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2AA6-95E0-4E84-A12D-B392937D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B08-5966-458D-B77A-30F0570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2C1-6AE3-4DD2-AE7B-18E63FC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F82-A76B-44E4-9142-59080FBB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604F6-1676-4DAE-BD16-C769DE1FC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