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46069"/>
        <c:axId val="44340112"/>
      </c:barChart>
      <c:catAx>
        <c:axId val="28946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40112"/>
        <c:crosses val="autoZero"/>
        <c:auto val="1"/>
        <c:lblAlgn val="ctr"/>
        <c:lblOffset val="100"/>
        <c:noMultiLvlLbl val="0"/>
      </c:catAx>
      <c:valAx>
        <c:axId val="44340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46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894-8FB6-49F8-AB3F-0AB0DE0D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AB7-040E-46D5-BEE2-2D89CB47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CDF-61FB-4C0C-BAF0-22364344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C3C-6125-41CA-A0FD-716167D1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F86-32C0-496D-A151-1751CAA3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76A-1A1A-4B57-87FC-60C1B99B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C60-ECD2-4E72-BB60-F1E479FD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74A-8DC6-4218-A880-B24E873A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783-5D9D-4FBB-9DDE-844ED150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4C7-FCF8-468D-AEEA-F5A58E98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000-1F29-4B24-8F3A-79DE4230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EDE-C875-465B-8086-914AD371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383D4-D13A-469B-8DA1-258D314FE4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