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55359"/>
        <c:axId val="23667176"/>
      </c:barChart>
      <c:catAx>
        <c:axId val="42355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67176"/>
        <c:crosses val="autoZero"/>
        <c:auto val="1"/>
        <c:lblAlgn val="ctr"/>
        <c:lblOffset val="100"/>
        <c:noMultiLvlLbl val="0"/>
      </c:catAx>
      <c:valAx>
        <c:axId val="23667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55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E59-7396-4238-949F-D86BF7B4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C08-4448-48ED-8272-F688B32A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078-6585-4F89-AFB3-11F412FB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413-A814-4CDD-B5DF-15BEA7ED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6DF-A9CF-44C6-9570-0CCB8457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136-C942-4C5A-B8C5-1A044FF3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186-CEFD-4C0E-BFE3-A61FA07F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502-FE80-4EA1-B107-4A9832C1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F8A-5AF6-4D7C-846B-17E6C4F9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518-AF18-4CE7-99F7-BD2F654D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506-490D-427C-80DC-F1A2654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7A2-7173-4C51-BAEA-9DC4E373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57EA1-EDAE-4C47-A22F-6FB2E4D5A1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