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19472"/>
        <c:axId val="15889048"/>
      </c:barChart>
      <c:catAx>
        <c:axId val="54319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89048"/>
        <c:crosses val="autoZero"/>
        <c:auto val="1"/>
        <c:lblAlgn val="ctr"/>
        <c:lblOffset val="100"/>
        <c:noMultiLvlLbl val="0"/>
      </c:catAx>
      <c:valAx>
        <c:axId val="15889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19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564-BF11-4D9F-9C2B-9D15890E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C54-2945-4994-A4F4-9C36EED0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409-FCF3-4FCB-B74A-EAF3E31F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09D-C37B-4805-B6D4-26F43F17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079-82EF-4D7A-A384-0240F57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A67A-0C60-459F-A85F-AB42D45C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EE6-F878-412D-AC3E-BEFEE25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F72-1715-413F-9E1A-18D99AA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D864-8454-4A4F-8F53-A22E1D3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D56B-6D74-4227-8982-17C7EF1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CD4-CDDE-4081-A534-508707E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32C-2CEF-4DD7-811D-E1847BA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8BC8A-6514-40F1-A053-7A315DD3A5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