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84771"/>
        <c:axId val="33597351"/>
      </c:barChart>
      <c:catAx>
        <c:axId val="43984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97351"/>
        <c:crosses val="autoZero"/>
        <c:auto val="1"/>
        <c:lblAlgn val="ctr"/>
        <c:lblOffset val="100"/>
        <c:noMultiLvlLbl val="0"/>
      </c:catAx>
      <c:valAx>
        <c:axId val="33597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84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27D-21A1-461D-8D3D-26A52950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4A6-8AE7-4407-AEB2-C835D62A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AAF-E4AB-423E-B475-8E5AF915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0D4-9763-4E40-9270-9FB6595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3BF-8F1A-4A6C-A9C6-9C2C9AE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199-1CFC-4370-80B0-7C5CA57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7C1-39D2-4352-8A26-35117BEB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EBA-32DC-4DB9-8387-85D40CDD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1FC-4874-49DA-9EDF-0D22D875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CD3-F92E-4BF2-9A94-E182163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84E-C772-4624-9ECE-CAC8C4A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8FE-D46E-4D3A-8EE1-B83F163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76A25-7891-458E-98E3-52AD6DFAF0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