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6579"/>
        <c:axId val="13628314"/>
      </c:barChart>
      <c:catAx>
        <c:axId val="5666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8314"/>
        <c:crosses val="autoZero"/>
        <c:auto val="1"/>
        <c:lblAlgn val="ctr"/>
        <c:lblOffset val="100"/>
        <c:noMultiLvlLbl val="0"/>
      </c:catAx>
      <c:valAx>
        <c:axId val="13628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999-DE1D-4A13-924F-6BADCA0D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A21-41C8-4C96-BC66-4B6405C9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A25-ED2F-48B6-9064-9663FA07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1DE-E282-4B86-8BA1-277C1B2C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C8A-B17C-4612-B7E6-D16F9A1B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934-88A9-4FF6-B4E4-0393A1F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9E0-634F-49AF-A2D9-A7FBF3D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B95-598B-4A58-9851-A9B2C35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176-56BC-4233-87A5-73522D8D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E35-89E1-460A-BF10-708A9CD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FF4-69D7-46E6-8837-DDBDA38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3C6-F69D-4564-8DD8-4E02D3D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14844-9E34-4F65-868F-E8B857DC2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