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98841"/>
        <c:axId val="71437588"/>
      </c:barChart>
      <c:catAx>
        <c:axId val="71998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37588"/>
        <c:crosses val="autoZero"/>
        <c:auto val="1"/>
        <c:lblAlgn val="ctr"/>
        <c:lblOffset val="100"/>
        <c:noMultiLvlLbl val="0"/>
      </c:catAx>
      <c:valAx>
        <c:axId val="71437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8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1C9-12ED-4E28-B629-BA2E4B3F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1C7-0A7C-4A52-A26B-16A8508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EE5-B2F0-497A-9134-1CB26D07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8BA-7D56-4B24-9A0A-E5D10BB5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7DA-54D3-4B9E-82F2-7251B2D8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8AF-81AA-4D72-ACD2-3FD197F5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6ED-4D9D-4C3F-A20D-8EE3D7B9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9F4-B8B8-4777-83A8-FEAA1B3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C08-F83B-4944-81B0-E0F7BC5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9E9-81C5-41B6-AB2A-31227FC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D91-7F01-4A67-A542-404C393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BF0-B207-4A5C-B3C2-A95CB79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A6CF5-0192-4307-9DF7-62C579BE3E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