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08439"/>
        <c:axId val="59771225"/>
      </c:barChart>
      <c:catAx>
        <c:axId val="87084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71225"/>
        <c:crosses val="autoZero"/>
        <c:auto val="1"/>
        <c:lblAlgn val="ctr"/>
        <c:lblOffset val="100"/>
        <c:noMultiLvlLbl val="0"/>
      </c:catAx>
      <c:valAx>
        <c:axId val="597712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84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0BD0-BD92-4847-8DEC-E4147E9F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9870-1C4C-41CF-862E-EFCE87E5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E9EB-724B-4BA3-9848-3CF504C3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36D0-BC43-4A9E-8606-0C39983C4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54CC-6138-4870-B895-9C396E4B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D324-433D-4DF2-B620-6B04E647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0C46-CC14-4A79-A375-7F35310D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1752-E198-4532-84DC-F9428FAA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7989-1355-4916-A047-051ADEBD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3E9D-C968-46C4-B2F3-5C37EE4B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33C4-BA6D-49FA-ADEA-5FA0D0CE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432A-AF32-4562-B0DE-D66C024E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FF7F3-E539-4CAC-B921-1D30EF6B54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