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33685"/>
        <c:axId val="1385410"/>
      </c:barChart>
      <c:catAx>
        <c:axId val="25533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5410"/>
        <c:crosses val="autoZero"/>
        <c:auto val="1"/>
        <c:lblAlgn val="ctr"/>
        <c:lblOffset val="100"/>
        <c:noMultiLvlLbl val="0"/>
      </c:catAx>
      <c:valAx>
        <c:axId val="1385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33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C4F-2183-4E08-8CE1-D3E0A863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89A-C6DC-492B-A8C6-B3FFF2D8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A67-EA04-4930-ACD4-D897D5B6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A74-EC6A-49A2-84BC-60DB2583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FE4-774F-4E07-BA76-BEC4141F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85E-04D9-40A1-9FCC-81BE4ECB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983-7C11-4BB4-9CE2-C980201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760-B341-408B-BFBB-5BA95319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308-15F7-4831-8820-7ABD59A2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D8A-CEFE-4409-9E4C-A69D9BA8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CC7-99D7-4D47-9F63-96B5994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7E7-372C-4CB6-8BA6-B43205B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4C93E-4BB2-4C0C-947C-87B6D596E3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