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08271"/>
        <c:axId val="9662564"/>
      </c:barChart>
      <c:catAx>
        <c:axId val="79408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2564"/>
        <c:crosses val="autoZero"/>
        <c:auto val="1"/>
        <c:lblAlgn val="ctr"/>
        <c:lblOffset val="100"/>
        <c:noMultiLvlLbl val="0"/>
      </c:catAx>
      <c:valAx>
        <c:axId val="9662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08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710-B498-4D2E-9B29-EA3894B7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E08-CBE3-4A09-9D67-59BCF124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5A3-C11B-4029-A617-D677C3B1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0BC-2374-4C77-BBD7-10884959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6DA-E53E-43D1-83DD-EBA15CF4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A6C-1286-4EFF-B341-1BE28DCB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8DA-1844-4353-9DAA-989CCAEC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2D5-9652-456C-97D8-64C607BB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084-F8FC-42E2-8194-DD652003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ABB-8DB4-434E-9AB2-BC67FC5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00E-33CF-4E9C-A643-CF069916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C8C-74D9-4E67-B2C7-5B7149D3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8D05B-1A23-4929-B6BD-498450E63F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