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397817"/>
        <c:axId val="2475663"/>
      </c:barChart>
      <c:catAx>
        <c:axId val="983978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5663"/>
        <c:crosses val="autoZero"/>
        <c:auto val="1"/>
        <c:lblAlgn val="ctr"/>
        <c:lblOffset val="100"/>
        <c:noMultiLvlLbl val="0"/>
      </c:catAx>
      <c:valAx>
        <c:axId val="24756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978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0615-8E86-4B50-8209-3E9F759EE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3940-1C28-4EA9-A86A-E11179FB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B93A-BB7D-4C9B-9DC3-A1838A43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982A-B125-4C5E-900E-AE608360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8392-D76D-4009-8957-2BF65760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0D52-34D3-42EA-8F8C-8B9211E4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38DB-9481-4AC1-991F-B52BA907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83C8-193B-4C50-BB57-11657820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DB24-EDB1-4408-A15F-56CADAAE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7ECE-3C54-4F0F-9577-1F489F1D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41EB-DACB-4991-A935-CD22FB93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6055-35F8-4CF0-A570-05BE9B47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D14C9-2558-4F80-97E9-3D0D66A067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