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39275"/>
        <c:axId val="32786242"/>
      </c:barChart>
      <c:catAx>
        <c:axId val="50839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86242"/>
        <c:crosses val="autoZero"/>
        <c:auto val="1"/>
        <c:lblAlgn val="ctr"/>
        <c:lblOffset val="100"/>
        <c:noMultiLvlLbl val="0"/>
      </c:catAx>
      <c:valAx>
        <c:axId val="32786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39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BC62-17D8-454A-A5F8-FD887141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EB5-3CBB-4B54-8D96-50D2B22B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7528-B5CD-41FD-B2CC-B63603D8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499-4950-454B-AF83-9B33A805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CA8-0651-496A-BF8F-A6C0DB9A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FE2-7AC6-43EF-9E07-BD87ED1B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1DB-298E-4639-9A5B-946926C2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20A-6F26-4B15-9B1E-D9E77624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4EF-BD78-42EC-AF49-417AE3FD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88F-ABF1-4E00-AA36-4579781C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BC4-050A-4C64-95D2-64262EA0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C9C-CA08-4A27-9722-C876EEEC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6699A-AF76-4857-8290-F183BD6F41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