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854976"/>
        <c:axId val="55636749"/>
      </c:barChart>
      <c:catAx>
        <c:axId val="518549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36749"/>
        <c:crosses val="autoZero"/>
        <c:auto val="1"/>
        <c:lblAlgn val="ctr"/>
        <c:lblOffset val="100"/>
        <c:noMultiLvlLbl val="0"/>
      </c:catAx>
      <c:valAx>
        <c:axId val="556367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549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C138-0799-4E27-8062-391C4744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7EB8-C0C7-4049-8E8C-CC922A7B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8207-2E83-4780-89EF-BF600038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FC4-1281-4470-B168-D0DBA6A2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454-D898-4055-8305-64B76DA1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D99F-BCD2-40A7-A5FC-A8E9AC98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22B5-984B-4A02-BFB4-96DBCCCB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5BC4-1F22-4890-8CC7-D39CCF8F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E57A-5958-4054-95D2-FC1C5247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1635-51C3-46A9-B3B8-7895E7E2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9B8-080F-4D22-B989-19EF021E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007B-85D5-45AD-A30E-C8132C15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967E3-516E-4772-AD28-CB677C1B57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