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34093"/>
        <c:axId val="8214980"/>
      </c:barChart>
      <c:catAx>
        <c:axId val="86134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980"/>
        <c:crosses val="autoZero"/>
        <c:auto val="1"/>
        <c:lblAlgn val="ctr"/>
        <c:lblOffset val="100"/>
        <c:noMultiLvlLbl val="0"/>
      </c:catAx>
      <c:valAx>
        <c:axId val="8214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34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5BF-F016-4296-8EE7-A545A53A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8A4-C1AE-4C06-ACD1-20C30E4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B99-F404-48BA-AE11-30E14BF7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36C-16DD-4D5A-8CBE-7B8E0DC4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871-4797-4D85-B80A-3207A9A5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764-44AA-4317-845B-9927EC2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B00-8A67-4E10-B270-DE79FFC8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356-0F96-485D-B39E-4EAF4E6B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7E1-001A-492D-A9BC-2651623C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3D2-3062-4D74-AE3C-3D11B1A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954-FDA7-461C-A8D5-85E8AF6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A5F-949A-4484-B7F6-122696E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FC0CA-9094-44D8-9C43-8DA228F054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