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26327"/>
        <c:axId val="74704209"/>
      </c:barChart>
      <c:catAx>
        <c:axId val="236263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04209"/>
        <c:crosses val="autoZero"/>
        <c:auto val="1"/>
        <c:lblAlgn val="ctr"/>
        <c:lblOffset val="100"/>
        <c:noMultiLvlLbl val="0"/>
      </c:catAx>
      <c:valAx>
        <c:axId val="747042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263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344-E52A-44FF-8651-A2E52C10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EB0F-E33C-4BBC-83CB-125966E5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8B9C-02CF-4205-8A28-72F7DB1C0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B552-3B58-4EE1-A179-FA608B11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1F92-3F48-47E0-90C9-17602D37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D98C-FE70-4C2B-8802-62FE61D6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FEE8-DA31-4C43-9739-83962F70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9870-34A5-40AD-B87D-CBCD412E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059E-6555-4814-85D5-63D66349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DF7C-5A91-42C2-A83A-FF3D0DBB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5B58-4706-4176-9A86-4337AF0C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733F-51BE-4B82-A44B-3EA1329B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D18C7-BE11-4F65-86CC-C98E4C4292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