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94100"/>
        <c:axId val="14166042"/>
      </c:barChart>
      <c:catAx>
        <c:axId val="30094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66042"/>
        <c:crosses val="autoZero"/>
        <c:auto val="1"/>
        <c:lblAlgn val="ctr"/>
        <c:lblOffset val="100"/>
        <c:noMultiLvlLbl val="0"/>
      </c:catAx>
      <c:valAx>
        <c:axId val="141660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94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470-4065-4033-A8CB-86128ABA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17A-F04E-4AC7-B7D5-2FBF3230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330-9281-4774-8F91-C39AF763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C1BF-36A0-4BD6-BB36-99A2ACCB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2FA-2372-471F-8F9F-6581B8B7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332D-E82F-434E-A420-F3AE355D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366-F68C-45DB-8031-969BE454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B94-AB15-4455-A09F-1F8FB2B8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7FF-BAF2-474B-BAD3-F102D143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DC3-5414-46E6-998C-DF65634E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AFF4-141D-4C92-A2F9-7625A43A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4DD-C568-4853-B323-45C0ED0C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F6731-5151-45F7-9FCF-8C28DE20EC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