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18967"/>
        <c:axId val="31880710"/>
      </c:barChart>
      <c:catAx>
        <c:axId val="89618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80710"/>
        <c:crosses val="autoZero"/>
        <c:auto val="1"/>
        <c:lblAlgn val="ctr"/>
        <c:lblOffset val="100"/>
        <c:noMultiLvlLbl val="0"/>
      </c:catAx>
      <c:valAx>
        <c:axId val="31880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18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483-4E93-4FF0-817E-7FB051AF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6EA-A856-4771-9B65-E6CAE26F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AF8-C744-4354-9310-CF913005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8073-A284-40F7-BB45-541CF95B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E53-E467-4BFF-A1A2-B6CE369C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BDC-6E7A-4C74-A361-C6E79A27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A3C-7B47-45FA-9880-80A2C333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4EC4-02DB-4397-B9FC-9F44FFCA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690-F61E-4519-BE2A-A840B348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713-7001-47EF-97FB-F5BA952F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BA91-D2E5-4C47-B99C-62A32710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231-4C78-49F9-ACD2-983F447C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1F5B4-E1A2-4E2D-9A6B-C0E890AD7B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